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2953-E4BB-47C4-AFE2-8E8EC640C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D24D-AE79-4F2E-897D-5948CC48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25DE-47E2-4E48-9504-880810EF2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D377-2478-40D2-B199-55E5FBF21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253F-0B1B-4C10-BA07-F743058B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A372-79EE-46E6-A355-482E860B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A311-EFF5-413C-B93F-B37CE8B2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4DCA-D38B-44D8-A6D1-7A86FC66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BED0-EF2B-4886-869C-3905D4F8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6A57-EC45-40C9-9DA8-511E0264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8D83-9860-4761-B2E1-81DE529A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4F3C-EEC7-4BFD-8080-E28B65C9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2843-B712-48BB-AB84-9978F25716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Tentative FSAP Mileston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L/CFT Working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740560" y="55627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4422600"/>
            <a:ext cx="0" cy="89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915240" y="4629240"/>
            <a:ext cx="0" cy="52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1847880" y="4648320"/>
            <a:ext cx="0" cy="95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390920" y="1338120"/>
            <a:ext cx="0" cy="2163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5589720"/>
            <a:ext cx="0" cy="26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59720" y="2449440"/>
            <a:ext cx="0" cy="104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49280" y="2732040"/>
            <a:ext cx="0" cy="777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35680" y="2973240"/>
            <a:ext cx="0" cy="52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6920" y="4441680"/>
            <a:ext cx="0" cy="70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3495600"/>
            <a:ext cx="86263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58920" y="692280"/>
            <a:ext cx="2224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ngsana New"/>
              </a:rPr>
              <a:t>Tentative FSAP Milest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5640" y="4280040"/>
            <a:ext cx="70164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  <a:ea typeface="Times New Roman"/>
              </a:rPr>
              <a:t>Presen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4280040"/>
            <a:ext cx="86508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  <a:ea typeface="Times New Roman"/>
              </a:rPr>
              <a:t>Pre-FSAP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68160" y="5326200"/>
            <a:ext cx="1543320" cy="693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Times New Roman"/>
              </a:rPr>
              <a:t>1. Agreement of the scoping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Times New Roman"/>
              </a:rPr>
              <a:t>2. Confidentiality protocol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08040" y="3290760"/>
            <a:ext cx="681120" cy="42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12-14 Jul</a:t>
            </a:r>
            <a:r>
              <a:rPr b="1" lang="th-TH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20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  <a:ea typeface="Times New Roman"/>
              </a:rPr>
              <a:t>06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64080" y="4280040"/>
            <a:ext cx="726840" cy="444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  <a:ea typeface="Times New Roman"/>
              </a:rPr>
              <a:t>1</a:t>
            </a:r>
            <a:r>
              <a:rPr b="1" lang="en-US" sz="900" spc="-1" strike="noStrike" baseline="30000">
                <a:solidFill>
                  <a:srgbClr val="ffffff"/>
                </a:solidFill>
                <a:latin typeface="Verdana"/>
                <a:ea typeface="Times New Roman"/>
              </a:rPr>
              <a:t>st</a:t>
            </a:r>
            <a:r>
              <a:rPr b="1" lang="en-US" sz="900" spc="-1" strike="noStrike">
                <a:solidFill>
                  <a:srgbClr val="ffffff"/>
                </a:solidFill>
                <a:latin typeface="Verdana"/>
                <a:ea typeface="Times New Roman"/>
              </a:rPr>
              <a:t> Miss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18120" y="4280040"/>
            <a:ext cx="725400" cy="444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  <a:ea typeface="Times New Roman"/>
              </a:rPr>
              <a:t>2</a:t>
            </a:r>
            <a:r>
              <a:rPr b="1" lang="en-US" sz="900" spc="-1" strike="noStrike" baseline="30000">
                <a:solidFill>
                  <a:srgbClr val="ffffff"/>
                </a:solidFill>
                <a:latin typeface="Verdana"/>
                <a:ea typeface="Times New Roman"/>
              </a:rPr>
              <a:t>nd</a:t>
            </a:r>
            <a:r>
              <a:rPr b="1" lang="en-US" sz="900" spc="-1" strike="noStrike">
                <a:solidFill>
                  <a:srgbClr val="ffffff"/>
                </a:solidFill>
                <a:latin typeface="Verdana"/>
                <a:ea typeface="Times New Roman"/>
              </a:rPr>
              <a:t> Miss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43640" y="4280040"/>
            <a:ext cx="936720" cy="520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  <a:ea typeface="Times New Roman"/>
              </a:rPr>
              <a:t>Article IV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  <a:ea typeface="Times New Roman"/>
              </a:rPr>
              <a:t>Miss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85080" y="4280040"/>
            <a:ext cx="865080" cy="444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  <a:ea typeface="Times New Roman"/>
              </a:rPr>
              <a:t>Board discuss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55880" y="3290760"/>
            <a:ext cx="544680" cy="42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Ja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  <a:ea typeface="Times New Roman"/>
              </a:rPr>
              <a:t>2007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5640" y="3290760"/>
            <a:ext cx="546120" cy="42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May</a:t>
            </a:r>
            <a:r>
              <a:rPr b="1" lang="en-US" sz="7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  <a:ea typeface="Times New Roman"/>
              </a:rPr>
              <a:t>2006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08480" y="3290760"/>
            <a:ext cx="544680" cy="42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Ap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  <a:ea typeface="Times New Roman"/>
              </a:rPr>
              <a:t>2007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61080" y="3290760"/>
            <a:ext cx="544680" cy="42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Ju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  <a:ea typeface="Times New Roman"/>
              </a:rPr>
              <a:t>2007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113680" y="3290760"/>
            <a:ext cx="546120" cy="42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Sep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  <a:ea typeface="Times New Roman"/>
              </a:rPr>
              <a:t>2007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39920" y="1841400"/>
            <a:ext cx="1036800" cy="3477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66"/>
                </a:solidFill>
                <a:latin typeface="Verdana"/>
                <a:ea typeface="Times New Roman"/>
              </a:rPr>
              <a:t>Receive Questionnair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36760" y="5326200"/>
            <a:ext cx="1463760" cy="1074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66"/>
                </a:solidFill>
                <a:latin typeface="Verdana"/>
                <a:ea typeface="Times New Roman"/>
              </a:rPr>
              <a:t>Late Jul – early Aug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66"/>
                </a:solidFill>
                <a:latin typeface="Verdana"/>
                <a:ea typeface="Times New Roman"/>
              </a:rPr>
              <a:t>1. Names of the Assessors are identifie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66"/>
                </a:solidFill>
                <a:latin typeface="Verdana"/>
                <a:ea typeface="Times New Roman"/>
              </a:rPr>
              <a:t>2. Agreement on mission dat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92360" y="755640"/>
            <a:ext cx="1771920" cy="6494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66"/>
                </a:solidFill>
                <a:latin typeface="Verdana"/>
                <a:ea typeface="Times New Roman"/>
              </a:rPr>
              <a:t>Participating country: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66"/>
                </a:solidFill>
                <a:latin typeface="Verdana"/>
                <a:ea typeface="Times New Roman"/>
              </a:rPr>
              <a:t>-  Write comment on detail assessment/ ROSC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66"/>
                </a:solidFill>
                <a:latin typeface="Verdana"/>
                <a:ea typeface="Times New Roman"/>
              </a:rPr>
              <a:t>-  Run stress tes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81640" y="1447920"/>
            <a:ext cx="1271520" cy="4791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66"/>
                </a:solidFill>
                <a:latin typeface="Verdana"/>
                <a:ea typeface="Times New Roman"/>
              </a:rPr>
              <a:t>Send the assessment report to IMF for review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44880" y="1981080"/>
            <a:ext cx="1098720" cy="468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66"/>
                </a:solidFill>
                <a:latin typeface="Verdana"/>
                <a:ea typeface="Times New Roman"/>
              </a:rPr>
              <a:t>IMF sends feedback to BO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95640" y="5857920"/>
            <a:ext cx="895320" cy="771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  <a:ea typeface="Times New Roman"/>
              </a:rPr>
              <a:t>Output: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Times New Roman"/>
              </a:rPr>
              <a:t>- Detail assessmen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Times New Roman"/>
              </a:rPr>
              <a:t>- Summary ROSC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211720" y="2666880"/>
            <a:ext cx="1874880" cy="376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66"/>
                </a:solidFill>
                <a:latin typeface="Verdana"/>
                <a:ea typeface="Times New Roman"/>
              </a:rPr>
              <a:t>Write Aide Mémoire (AM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66"/>
                </a:solidFill>
                <a:latin typeface="Verdana"/>
                <a:ea typeface="Times New Roman"/>
              </a:rPr>
              <a:t>Return completed AM to BO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23040" y="5257800"/>
            <a:ext cx="733320" cy="328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Times New Roman"/>
              </a:rPr>
              <a:t>Wrap up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05520" y="5848200"/>
            <a:ext cx="952560" cy="857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  <a:ea typeface="Times New Roman"/>
              </a:rPr>
              <a:t>Additional: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Times New Roman"/>
              </a:rPr>
              <a:t>FSAP Mission staffs discuss with the BOT to complete A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70680" y="1219320"/>
            <a:ext cx="1716120" cy="13287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66"/>
                </a:solidFill>
                <a:latin typeface="Verdana"/>
                <a:ea typeface="Times New Roman"/>
              </a:rPr>
              <a:t>Fund staff members prepare on FSSA as background to Article IV Board Miss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66"/>
                </a:solidFill>
                <a:latin typeface="Verdana"/>
                <a:ea typeface="Times New Roman"/>
              </a:rPr>
              <a:t>Bank staff members prepare FSA to inform bank board and to highlight   key structural and developmental issu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557360"/>
            <a:ext cx="1293840" cy="12715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66"/>
                </a:solidFill>
                <a:latin typeface="Verdana"/>
                <a:ea typeface="Times New Roman"/>
              </a:rPr>
              <a:t>Agreement of Pre-FSAP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66"/>
                </a:solidFill>
                <a:latin typeface="Verdana"/>
                <a:ea typeface="Times New Roman"/>
              </a:rPr>
              <a:t>Submit: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66"/>
                </a:solidFill>
                <a:latin typeface="Verdana"/>
                <a:ea typeface="Times New Roman"/>
              </a:rPr>
              <a:t>1. Pre-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66"/>
                </a:solidFill>
                <a:latin typeface="Verdana"/>
                <a:ea typeface="Times New Roman"/>
              </a:rPr>
              <a:t>2. Background notes on financial secto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620800" y="4307040"/>
            <a:ext cx="908280" cy="569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66"/>
                </a:solidFill>
                <a:latin typeface="Verdana"/>
                <a:ea typeface="Times New Roman"/>
              </a:rPr>
              <a:t>Submit: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66"/>
                </a:solidFill>
                <a:latin typeface="Verdana"/>
                <a:ea typeface="Times New Roman"/>
              </a:rPr>
              <a:t>- Self-assessmen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24480" y="5157720"/>
            <a:ext cx="1298520" cy="1471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Times New Roman"/>
              </a:rPr>
              <a:t>Discussion of detailed standards assessments with BOT (typically through correspondences) to incorporate the authority’s response to staff assessments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705800" y="5162400"/>
            <a:ext cx="1361880" cy="1009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Times New Roman"/>
              </a:rPr>
              <a:t>Transmission of technical notes and detailed standards assessments to BO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Times New Roman"/>
              </a:rPr>
              <a:t>Publication in line with agreed polici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54480" y="5270400"/>
            <a:ext cx="749160" cy="33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Times New Roman"/>
              </a:rPr>
              <a:t>Wrap up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758880" y="3757320"/>
            <a:ext cx="0" cy="52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847880" y="3757320"/>
            <a:ext cx="0" cy="52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3757320"/>
            <a:ext cx="0" cy="52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481720" y="3757320"/>
            <a:ext cx="0" cy="52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027320" y="3757320"/>
            <a:ext cx="0" cy="52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8386920" y="3757320"/>
            <a:ext cx="0" cy="52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693880" y="2197080"/>
            <a:ext cx="0" cy="1308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83000" y="2711520"/>
            <a:ext cx="0" cy="784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473200" y="35020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54520" y="1927080"/>
            <a:ext cx="0" cy="1568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18120" y="2449440"/>
            <a:ext cx="0" cy="104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2142360" y="2851560"/>
            <a:ext cx="96840" cy="571320"/>
          </a:xfrm>
          <a:custGeom>
            <a:avLst/>
            <a:gdLst>
              <a:gd name="textAreaLeft" fmla="*/ 0 w 96840"/>
              <a:gd name="textAreaRight" fmla="*/ 34920 w 96840"/>
              <a:gd name="textAreaTop" fmla="*/ 14760 h 571320"/>
              <a:gd name="textAreaBottom" fmla="*/ 55656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7120" y="2787480"/>
            <a:ext cx="8175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66"/>
                </a:solidFill>
                <a:latin typeface="Verdana"/>
                <a:ea typeface="Times New Roman"/>
              </a:rPr>
              <a:t>Within 2 week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075120" y="3510000"/>
            <a:ext cx="0" cy="784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649600" y="2711520"/>
            <a:ext cx="9414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66"/>
                </a:solidFill>
                <a:latin typeface="Verdana"/>
                <a:ea typeface="Times New Roman"/>
              </a:rPr>
              <a:t>Within 2-3 mths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3045600" y="2748240"/>
            <a:ext cx="95400" cy="776520"/>
          </a:xfrm>
          <a:custGeom>
            <a:avLst/>
            <a:gdLst>
              <a:gd name="textAreaLeft" fmla="*/ 0 w 95400"/>
              <a:gd name="textAreaRight" fmla="*/ 34560 w 95400"/>
              <a:gd name="textAreaTop" fmla="*/ 20160 h 776520"/>
              <a:gd name="textAreaBottom" fmla="*/ 756360 h 7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4529880" y="2972160"/>
            <a:ext cx="95400" cy="328680"/>
          </a:xfrm>
          <a:custGeom>
            <a:avLst/>
            <a:gdLst>
              <a:gd name="textAreaLeft" fmla="*/ 0 w 95400"/>
              <a:gd name="textAreaRight" fmla="*/ 34560 w 95400"/>
              <a:gd name="textAreaTop" fmla="*/ 8280 h 328680"/>
              <a:gd name="textAreaBottom" fmla="*/ 320400 h 32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21280" y="2786040"/>
            <a:ext cx="9428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66"/>
                </a:solidFill>
                <a:latin typeface="Verdana"/>
                <a:ea typeface="Times New Roman"/>
              </a:rPr>
              <a:t>Within 1 mth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29040" y="2365200"/>
            <a:ext cx="1085760" cy="3463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66"/>
                </a:solidFill>
                <a:latin typeface="Verdana"/>
                <a:ea typeface="Times New Roman"/>
              </a:rPr>
              <a:t>Retur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66"/>
                </a:solidFill>
                <a:latin typeface="Verdana"/>
                <a:ea typeface="Times New Roman"/>
              </a:rPr>
              <a:t>Questionnair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90920" y="441648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60" idx="2"/>
            <a:endCxn id="75" idx="0"/>
          </p:cNvCxnSpPr>
          <p:nvPr/>
        </p:nvCxnSpPr>
        <p:spPr>
          <a:xfrm flipH="1" rot="16200000">
            <a:off x="5367960" y="4836960"/>
            <a:ext cx="534240" cy="308520"/>
          </a:xfrm>
          <a:prstGeom prst="bentConnector3">
            <a:avLst>
              <a:gd name="adj1" fmla="val 49966"/>
            </a:avLst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7T04:07:21Z</dcterms:created>
  <dc:creator>x</dc:creator>
  <dc:description/>
  <dc:language>en-US</dc:language>
  <cp:lastModifiedBy>x</cp:lastModifiedBy>
  <dcterms:modified xsi:type="dcterms:W3CDTF">2006-07-27T04:09:05Z</dcterms:modified>
  <cp:revision>1</cp:revision>
  <dc:subject/>
  <dc:title>Tentative FSAP Milestone</dc:title>
</cp:coreProperties>
</file>